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E27-1823-4D10-AB53-A23B666F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B05-A7B2-41BE-B2C7-4FB360D9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C48-6E65-4BEC-870B-1E36703D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35F-F4D6-4D17-B340-CE3AE2F4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A98-2F2A-4459-B4C4-5E939D65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699-30C3-4ACF-BF7D-D6681045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1CF-4F4D-4ADC-894C-5A9840AE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1E4-3FF9-43FA-B630-B907421F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1D8-B577-47EF-BED7-951190C9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EEE-E7A2-4640-8E3F-6D370D86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BAD-7B5A-431C-879C-AF4ABF84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E0A-735B-4A72-A832-BD842D32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AFB6-AC87-45B2-99BA-5EDD843CC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2133720" y="1676520"/>
            <a:ext cx="4572000" cy="2743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304920" y="533520"/>
            <a:ext cx="274320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3352680" y="152280"/>
            <a:ext cx="2743200" cy="8384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6172200" y="685800"/>
            <a:ext cx="2743200" cy="10666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3200400" y="5410080"/>
            <a:ext cx="2743200" cy="10670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0" y="4419720"/>
            <a:ext cx="2743200" cy="10666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6172200" y="4419720"/>
            <a:ext cx="274320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1600200" y="144792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1676520" y="38098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4267080" y="4419720"/>
            <a:ext cx="763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6248520" y="3809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V="1">
            <a:off x="6019920" y="1752120"/>
            <a:ext cx="1447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 flipH="1">
            <a:off x="4572000" y="990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35:48Z</dcterms:created>
  <dc:creator> </dc:creator>
  <dc:description/>
  <dc:language>en-US</dc:language>
  <cp:lastModifiedBy>teacher</cp:lastModifiedBy>
  <dcterms:modified xsi:type="dcterms:W3CDTF">2011-03-05T09:22:43Z</dcterms:modified>
  <cp:revision>4</cp:revision>
  <dc:subject/>
  <dc:title>Slide 1</dc:title>
</cp:coreProperties>
</file>